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105.xml.rels" ContentType="application/vnd.openxmlformats-package.relationships+xml"/>
  <Override PartName="/ppt/notesSlides/_rels/notesSlide41.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89.xml.rels" ContentType="application/vnd.openxmlformats-package.relationships+xml"/>
  <Override PartName="/ppt/notesSlides/_rels/notesSlide68.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36.xml.rels" ContentType="application/vnd.openxmlformats-package.relationships+xml"/>
  <Override PartName="/ppt/notesSlides/_rels/notesSlide130.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7.xml.rels" ContentType="application/vnd.openxmlformats-package.relationships+xml"/>
  <Override PartName="/ppt/notesSlides/_rels/notesSlide129.xml.rels" ContentType="application/vnd.openxmlformats-package.relationships+xml"/>
  <Override PartName="/ppt/notesSlides/_rels/notesSlide86.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09.xml.rels" ContentType="application/vnd.openxmlformats-package.relationships+xml"/>
  <Override PartName="/ppt/notesSlides/_rels/notesSlide131.xml.rels" ContentType="application/vnd.openxmlformats-package.relationships+xml"/>
  <Override PartName="/ppt/notesSlides/_rels/notesSlide98.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22.xml.rels" ContentType="application/vnd.openxmlformats-package.relationships+xml"/>
  <Override PartName="/ppt/notesSlides/_rels/notesSlide12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02.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99.xml" ContentType="application/vnd.openxmlformats-officedocument.presentationml.notesSlide+xml"/>
  <Override PartName="/ppt/notesSlides/notesSlide97.xml" ContentType="application/vnd.openxmlformats-officedocument.presentationml.notesSlide+xml"/>
  <Override PartName="/ppt/notesSlides/notesSlide94.xml" ContentType="application/vnd.openxmlformats-officedocument.presentationml.notesSlide+xml"/>
  <Override PartName="/ppt/notesSlides/notesSlide125.xml" ContentType="application/vnd.openxmlformats-officedocument.presentationml.notesSlide+xml"/>
  <Override PartName="/ppt/notesSlides/notesSlide126.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133.xml" ContentType="application/vnd.openxmlformats-officedocument.presentationml.notesSlide+xml"/>
  <Override PartName="/ppt/notesSlides/notesSlide122.xml" ContentType="application/vnd.openxmlformats-officedocument.presentationml.notesSlide+xml"/>
  <Override PartName="/ppt/notesSlides/notesSlide134.xml" ContentType="application/vnd.openxmlformats-officedocument.presentationml.notesSlide+xml"/>
  <Override PartName="/ppt/notesSlides/notesSlide123.xml" ContentType="application/vnd.openxmlformats-officedocument.presentationml.notesSlide+xml"/>
  <Override PartName="/ppt/notesSlides/notesSlide135.xml" ContentType="application/vnd.openxmlformats-officedocument.presentationml.notesSlide+xml"/>
  <Override PartName="/ppt/notesSlides/notesSlide68.xml" ContentType="application/vnd.openxmlformats-officedocument.presentationml.notesSlide+xml"/>
  <Override PartName="/ppt/notesSlides/notesSlide124.xml" ContentType="application/vnd.openxmlformats-officedocument.presentationml.notesSlide+xml"/>
  <Override PartName="/ppt/notesSlides/notesSlide136.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120.xml" ContentType="application/vnd.openxmlformats-officedocument.presentationml.notesSlide+xml"/>
  <Override PartName="/ppt/notesSlides/notesSlide88.xml" ContentType="application/vnd.openxmlformats-officedocument.presentationml.notesSlide+xml"/>
  <Override PartName="/ppt/notesSlides/notesSlide27.xml" ContentType="application/vnd.openxmlformats-officedocument.presentationml.notesSlide+xml"/>
  <Override PartName="/ppt/notesSlides/notesSlide85.xml" ContentType="application/vnd.openxmlformats-officedocument.presentationml.notesSlide+xml"/>
  <Override PartName="/ppt/notesSlides/notesSlide115.xml" ContentType="application/vnd.openxmlformats-officedocument.presentationml.notesSlide+xml"/>
  <Override PartName="/ppt/notesSlides/notesSlide7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8FD0-3A0F-4E34-B868-7270DF3C2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FD4A-1211-4723-8582-105269979C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79C5-3F96-491D-9FC5-7FE628ECEF8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AF47-3E6C-4154-84A6-9E3CA0BBF2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1C60-F912-4623-9124-33EB6D6C9C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682F-F8CD-47C4-A627-ED337FD156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7C52-8664-4F8A-950C-A08CDEAD41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4EBE-F217-460F-97E5-A1A8463EC0B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4DC8-9B58-4ADC-A842-EC1B295F4B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F15F-86C8-4B5E-9518-214EEA43C4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7EEF-B5EF-424C-B4EC-89B901BEC4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B86F-86FC-45BC-B77B-A600B7C321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9330-454F-4D37-B449-6EDAEB7A8F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040C-0465-45CC-B4A1-96E9913753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28CE-F281-4EDD-A4F6-523A9B8BF0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0EC4-1D4E-4EDE-9DE9-82EEECC954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CBC2-2E1A-43E0-AFB0-4464B5A8C54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266F-F121-4D94-98F2-F42EF04B73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5C40-2918-4FCC-A45D-1FD7363A83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FE64-5677-4AA1-B211-F8F36DAEA1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1CF4-FAA9-48AD-AE82-7437858369F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80C3-895A-4CC4-90C6-67E2BC1E48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17A5-847B-441F-AD3F-0457330C3EE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3C8A-C6C8-4AFF-870C-6826C72885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520D-9182-484A-B3B6-8A09ADD20C6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FFA3-2D19-485A-9E74-D68CB7FA92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7304-12EE-499E-BCA2-10B252706F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BF67-A340-4F61-9E24-9C388C6335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7463-9577-44FE-8A4B-3CEE6913261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B455-9278-403A-BC66-265EAA2958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B321-D59C-41B4-B4C4-9F14C4FF70C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F457-62B7-4791-A96A-8191828A07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6A25-A78C-484B-8D96-AD527FA2F3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1712-0493-4711-B3E8-DDEB2D2C79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62DD-198E-4354-BAA8-CA50FBB08E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8EC5-D8E0-4B78-8BE4-E5C979D8776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FD5B-2743-458A-AF8D-14C0CDF870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BDC5-FDA6-4317-A264-8B2F9C7A28F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9137-9426-4493-8277-3245E89DFCF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FE4A-930F-4763-BAB2-B138FCC771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8EFF-9736-4A0E-BCFE-B386CCFB04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72E6-1016-4DB1-B5CF-0CEEC85E408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9569-65D5-4BCE-AA61-3266B86EE59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DC56-FB31-4077-8075-FA565C294D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89A1-E0A3-4EA9-A4FC-798E74280E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7F06-21AD-436A-904C-CA527CE1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19879-55EF-487A-8239-D5A051A93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B76E1-0208-463A-8608-76525957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E4A76-CBC8-413C-94BA-1FCC13033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F4341-F378-4C1E-9821-2AAAC27D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81B9-C36F-4216-9FFC-62193E008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BE66-9FBD-4A9E-8934-33B463313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0290B-732D-44B2-BC64-23E2A241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AE16B-85F9-4C27-A48A-DF8293B45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0AB2-250E-41C5-A10A-4501270A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482F-FBC8-491A-B1A4-2B4A7BA4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72E8B-A65A-408B-87C7-7537E6E7C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131B-130E-40BF-8DC3-8BB975C7FE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Executiv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many amendments, it contains (in 2012):</a:t>
            </a:r>
            <a:br>
              <a:rPr sz="4400"/>
            </a:br>
            <a:br>
              <a:rPr sz="4400"/>
            </a:br>
            <a:r>
              <a:rPr b="0" lang="en-US" sz="4400" spc="-1" strike="noStrike">
                <a:solidFill>
                  <a:srgbClr val="000000"/>
                </a:solidFill>
                <a:latin typeface="Calibri"/>
              </a:rPr>
              <a:t>26 Sections (still)</a:t>
            </a:r>
            <a:br>
              <a:rPr sz="4400"/>
            </a:br>
            <a:r>
              <a:rPr b="0" lang="en-US" sz="4400" spc="-1" strike="noStrike">
                <a:solidFill>
                  <a:srgbClr val="000000"/>
                </a:solidFill>
                <a:latin typeface="Calibri"/>
              </a:rPr>
              <a:t>but</a:t>
            </a:r>
            <a:br>
              <a:rPr sz="4400"/>
            </a:br>
            <a:r>
              <a:rPr b="0" lang="en-US" sz="4400" spc="-1" strike="noStrike">
                <a:solidFill>
                  <a:srgbClr val="000000"/>
                </a:solidFill>
                <a:latin typeface="Calibri"/>
              </a:rPr>
              <a:t>4,2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Pro-Tempore of the Senate replaces the Lieutenant Governor is something happens to him or 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8.  </a:t>
            </a:r>
            <a:br>
              <a:rPr sz="4400"/>
            </a:br>
            <a:br>
              <a:rPr sz="4400"/>
            </a:br>
            <a:r>
              <a:rPr b="0" lang="en-US" sz="4400" spc="-1" strike="noStrike">
                <a:solidFill>
                  <a:srgbClr val="000000"/>
                </a:solidFill>
                <a:latin typeface="Calibri"/>
              </a:rPr>
              <a:t>RESTRICTIONS AND INHI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ieutenant Governor or President pro tempore of the Senate shall, during the time the Lieutenant Governor or President pro tempore exercises the powers and authority appertaining to the office of Governor, be under all the restrictions and inhibitions imposed in this Constitution on the Govern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9  </a:t>
            </a:r>
            <a:br>
              <a:rPr sz="4000"/>
            </a:br>
            <a:br>
              <a:rPr sz="4000"/>
            </a:br>
            <a:r>
              <a:rPr b="0" lang="en-US" sz="4000" spc="-1" strike="noStrike">
                <a:solidFill>
                  <a:srgbClr val="000000"/>
                </a:solidFill>
                <a:latin typeface="Calibri"/>
              </a:rPr>
              <a:t>SEAL OF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re shall be a Seal of the State which shall be kept by the Secretary of State, and used by him officially under the direction of the Governor. The Seal of the State shall be a star of five points encircled by olive and live oak branches, and the words "The State of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The state seal is required by law to be affixed to numerous documents, such as commissions for elected and appointed state and local officials, etc . . . </a:t>
            </a:r>
            <a:br>
              <a:rPr sz="4400"/>
            </a:br>
            <a:br>
              <a:rPr sz="4400"/>
            </a:br>
            <a:r>
              <a:rPr b="0" lang="en-US" sz="4400" spc="-1" strike="noStrike">
                <a:solidFill>
                  <a:srgbClr val="000000"/>
                </a:solidFill>
                <a:latin typeface="Calibri"/>
              </a:rPr>
              <a:t>Here is the state s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www.sealfactory.ca/Quickstart/ImageLib/p-seal-at-toronto-zoo.jpg"/>
          <p:cNvPicPr/>
          <p:nvPr/>
        </p:nvPicPr>
        <p:blipFill>
          <a:blip r:embed="rId1"/>
          <a:stretch/>
        </p:blipFill>
        <p:spPr>
          <a:xfrm>
            <a:off x="523800" y="380880"/>
            <a:ext cx="8086680" cy="6181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ong slide – sor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File:Seal of Texas.svg"/>
          <p:cNvPicPr/>
          <p:nvPr/>
        </p:nvPicPr>
        <p:blipFill>
          <a:blip r:embed="rId1"/>
          <a:stretch/>
        </p:blipFill>
        <p:spPr>
          <a:xfrm>
            <a:off x="2019240" y="914400"/>
            <a:ext cx="4991040" cy="4991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a:t>
            </a:r>
            <a:br>
              <a:rPr sz="4400"/>
            </a:br>
            <a:br>
              <a:rPr sz="4400"/>
            </a:br>
            <a:r>
              <a:rPr b="0" lang="en-US" sz="4400" spc="-1" strike="noStrike">
                <a:solidFill>
                  <a:srgbClr val="000000"/>
                </a:solidFill>
                <a:latin typeface="Calibri"/>
              </a:rPr>
              <a:t>SECRETARY OF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s long as the legislative branch, but much longer than Article 2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re shall be a Secretary of State, who shall be appointed by the Governor, by and with the advice and consent of the Senate, and who shall continue in office during the term of service of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He shall authenticate the publication of the laws, and keep a fair register of all official acts and proceedings of the Governor, and shall, when required, lay the same and all papers, minutes and vouchers relative thereto, before the Legislature, or either House thereof, and shall perform such other duties as may be required of him by law. He shall receive for his services an annual salary in an amount to be fixed by the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of the Secretary of State, and here for the Wikipedia page. The major responsibility of the Secretary is State is overseeing the conduction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website: The Secretary serves as Chief Election Officer for Texas, assisting county election officials and ensuring the uniform application and interpretation of election laws throughout Texas. The Office of the Secretary of State also provides a repository for official and business and commercial records required to be filed with the Office. The Secretary publishes government rules and regulations and commissions notaries public. The Secretary also serves as keeper of the state seal and attestor to the Governor's signature on official documents. In addition, the Secretary serves as senior advisor and liaison to the Governor for Texas Border and Mexican Affairs, and serves as Chief International Protocol Officer for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Google News: Stories related the Texas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a:t>
            </a:r>
            <a:br>
              <a:rPr sz="4400"/>
            </a:br>
            <a:br>
              <a:rPr sz="4400"/>
            </a:br>
            <a:r>
              <a:rPr b="0" lang="en-US" sz="4400" spc="-1" strike="noStrike">
                <a:solidFill>
                  <a:srgbClr val="000000"/>
                </a:solidFill>
                <a:latin typeface="Calibri"/>
              </a:rPr>
              <a:t>ATTORNEY GENE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ttorney General shall represent the State in all suits and pleas in the Supreme Court of the State in which the State may be a party, and shall especially inquire into the charter rights of all private corporations, and from time to time, in the name of the State, take such action in the courts as may be proper and necessary to prevent any private corporation from exercising any power or demanding or collecting any species of taxes, tolls, freight or wharfage not authorized by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He shall, whenever sufficient cause exists, seek a judicial forfeiture of such charters, unless otherwise expressly directed by law, and give legal advice in writing to the Governor and other executive officers, when requested by them, and perform such other duties as may be requir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orney General is the chief legal and law enforcement officer of the state. The office defends the laws and the constitution of the state.</a:t>
            </a:r>
            <a:br>
              <a:rPr sz="4400"/>
            </a:br>
            <a:br>
              <a:rPr sz="4400"/>
            </a:br>
            <a:r>
              <a:rPr b="0" lang="en-US" sz="4400" spc="-1" strike="noStrike">
                <a:solidFill>
                  <a:srgbClr val="000000"/>
                </a:solidFill>
                <a:latin typeface="Calibri"/>
              </a:rPr>
              <a:t>It also represents the state when it is involved in litigation, and approves public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here for the official website of the Attorney General’s office and here for the Wikipedia page.</a:t>
            </a:r>
            <a:br>
              <a:rPr sz="3600"/>
            </a:br>
            <a:br>
              <a:rPr sz="3600"/>
            </a:br>
            <a:r>
              <a:rPr b="0" lang="en-US" sz="3600" spc="-1" strike="noStrike">
                <a:solidFill>
                  <a:srgbClr val="000000"/>
                </a:solidFill>
                <a:latin typeface="Calibri"/>
              </a:rPr>
              <a:t>Click here for Google results for news items related to the Attorney General. The current AG, Greg Abbott, has been very active in recent cases involving federalism disputes between the powers of the US vs. Texas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  </a:t>
            </a:r>
            <a:br>
              <a:rPr sz="4400"/>
            </a:br>
            <a:br>
              <a:rPr sz="4400"/>
            </a:br>
            <a:r>
              <a:rPr b="0" lang="en-US" sz="4400" spc="-1" strike="noStrike">
                <a:solidFill>
                  <a:srgbClr val="000000"/>
                </a:solidFill>
                <a:latin typeface="Calibri"/>
              </a:rPr>
              <a:t>OFFICERS CONSTITUTING TH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a:t>
            </a:r>
            <a:br>
              <a:rPr sz="4400"/>
            </a:br>
            <a:br>
              <a:rPr sz="4400"/>
            </a:br>
            <a:r>
              <a:rPr b="0" lang="en-US" sz="4400" spc="-1" strike="noStrike">
                <a:solidFill>
                  <a:srgbClr val="000000"/>
                </a:solidFill>
                <a:latin typeface="Calibri"/>
              </a:rPr>
              <a:t>COMPTROLLER OF PUBLIC ACCOUNTS; COMMISSIONER OF GENERAL LAND OFFICE; ELECTED STATUTORY STATE OFFICERS; TERM; SALARY; FEES, COSTS AND PERQUIS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Comptroller of Public Accounts, the Commissioner of the General Land Office, the Attorney General, and any statutory State officer who is elected by the electorate of Texas at large, unless a term of office is otherwise specifically provided in this Constitution, shall each hold office for the term of four years.  Each shall receive an annual salary in an amount to be fixed by the Legislature; reside at the Capital of the State during his continuance in office, and perform such duties as are or may be required by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y and the Secretary of State shall not receive to their own use any fees, costs or perquisites of office.  All fees that may be payable by law for any service performed by any officer specified in this section or in his office, shall be paid, when received, into the State Treas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of the Comptroller of Public Accounts, and here for the Wikipedia entry o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website: “The Comptroller is the chief steward of the state’s finances, acting as tax collector, chief accountant, chief revenue estimator and chief treasurer for all of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 about the Texas Comptroller of Public Accounts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website of the Texas General Land Office and website of the Commissioner.</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Click here for the TSHA on the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lso mentions the General Land Office without actually establishing it. </a:t>
            </a:r>
            <a:br>
              <a:rPr sz="4400"/>
            </a:br>
            <a:br>
              <a:rPr sz="4400"/>
            </a:br>
            <a:r>
              <a:rPr b="0" lang="en-US" sz="4400" spc="-1" strike="noStrike">
                <a:solidFill>
                  <a:srgbClr val="000000"/>
                </a:solidFill>
                <a:latin typeface="Calibri"/>
              </a:rPr>
              <a:t>This is done in Article 14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manages state-controlled lands and mineral rights properties. The agency originally collected and kept records regarding lands controlled by the state. </a:t>
            </a:r>
            <a:br>
              <a:rPr sz="3600"/>
            </a:br>
            <a:br>
              <a:rPr sz="3600"/>
            </a:br>
            <a:r>
              <a:rPr b="0" lang="en-US" sz="3600" spc="-1" strike="noStrike">
                <a:solidFill>
                  <a:srgbClr val="000000"/>
                </a:solidFill>
                <a:latin typeface="Calibri"/>
              </a:rPr>
              <a:t>Its management of mineral rights makes it a very popular agency with the oil and gas industry. This management extends over 10 miles out into the gu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news about the TGLO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Department of the State shall consist of a Governor, who shall be the Chief Executive Officer of the State, a Lieutenant Governor, Secretary of State, Comptroller of Public Accounts, Commissioner of the General Land Office, and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CCOUNTS AND REPORTS; INFORMATION TO, AND INSPECTION BY, GOVERNOR; PER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n account shall be kept by the officers of the Executive Department, and by all officers and managers of State institutions, of all moneys and choses in action received and disbursed or otherwise disposed of by them, severally, from all sources, and for every service performed; and a semi-annual report thereof shall be made to the Governor under oa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Governor may, at any time, require information in writing from any and all of said officers or managers, upon any subject relating to the duties, condition, management and expenses of their respective offices and institutions, which information shall be required by the Governor under oath, and the Governor may also inspect their books, accounts, vouchers and public funds; and any officer or manager who, at any time, shall willfully make a false report or give false information, shall be guilty of perjury, and so adjudged, and punished accordingly, and removed from off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CUSTODIANS OF PUBLIC FUNDS; BREACHES OF TRUST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pass efficient laws facilitating the investigation of breaches of trust and duty by all custodians of public funds and providing for their suspension from office on reasonable cause shown, and for the appointment of temporary incumbents of their offices during such susp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6.  NOTARIES PUBLIC.  (a) The Secretary of State shall appoint a convenient number of Notaries Public for the state who shall perform such duties as now are or may be prescribed by law.  The qualifications of Notaries Public shall be prescribed by law. (b)  The terms of office of Notaries Public shall be not less than two years nor more than four years as provided by law.  </a:t>
            </a:r>
            <a:br>
              <a:rPr sz="3200"/>
            </a:br>
            <a:r>
              <a:rPr b="0" lang="en-US" sz="3200" spc="-1" strike="noStrike">
                <a:solidFill>
                  <a:srgbClr val="000000"/>
                </a:solidFill>
                <a:latin typeface="Calibri"/>
              </a:rPr>
              <a:t>(Amended Nov. 5, 1940; Subsec. (b) amended Nov. 6, 197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 The Secretary of State shall appoint a convenient number of Notaries Public for the state who shall perform such duties as now are or may be prescribed by law. The qualifications of Notaries Public shall be prescribed by law.</a:t>
            </a:r>
            <a:br>
              <a:rPr sz="3600"/>
            </a:br>
            <a:br>
              <a:rPr sz="3600"/>
            </a:br>
            <a:r>
              <a:rPr b="0" i="1" lang="en-US" sz="3600" spc="-1" strike="noStrike">
                <a:solidFill>
                  <a:srgbClr val="000000"/>
                </a:solidFill>
                <a:latin typeface="Calibri"/>
              </a:rPr>
              <a:t>(b)  The terms of office of Notaries Public shall be not less than two years nor more than four years as provided by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executive branch is headed by six institutions. All but the Secretary of State are elected separately. </a:t>
            </a:r>
            <a:br>
              <a:rPr sz="4400"/>
            </a:br>
            <a:br>
              <a:rPr sz="4400"/>
            </a:br>
            <a:r>
              <a:rPr b="0" lang="en-US" sz="4400" spc="-1" strike="noStrike">
                <a:solidFill>
                  <a:srgbClr val="000000"/>
                </a:solidFill>
                <a:latin typeface="Calibri"/>
              </a:rPr>
              <a:t>They may all run on the same party ticket – but they are independen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o mention is made of the Commissioner of Agriculture, which is also elected separately to head the Texas Department of Agriculture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independently elected executive position mandated by the legislature, not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ural executive also contains two elected boards which are in charge of policies related to education and the production of oil and ga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tate Board of Education is an elected 15 member board which oversees, along with the Commissioner of Education, the public education system of Texas – specifically the Texas Education Agency, in accordance with the 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ailroad Commission of Texas was originally established to regulate the rail industry in the state, but that authority has expanded over time. Most importantly it includes the ability to regulate the production of oil and ga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walk through the Texas Constitution in order to get a general sense of the structure of the Texas executive branch, or at least what’s said about it in the document. </a:t>
            </a:r>
            <a:br>
              <a:rPr sz="4400"/>
            </a:br>
            <a:br>
              <a:rPr sz="3200"/>
            </a:br>
            <a:r>
              <a:rPr b="0" lang="en-US" sz="3200" spc="-1" strike="noStrike">
                <a:solidFill>
                  <a:srgbClr val="000000"/>
                </a:solidFill>
                <a:latin typeface="Calibri"/>
              </a:rPr>
              <a:t>Note: The Texas Governor is but one of a handful of institutions established in the Constitution. They are not interchange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ssion has three members elected to six years overlapping terms. </a:t>
            </a:r>
            <a:br>
              <a:rPr sz="4400"/>
            </a:br>
            <a:br>
              <a:rPr sz="4400"/>
            </a:br>
            <a:r>
              <a:rPr b="0" lang="en-US" sz="4400" spc="-1" strike="noStrike">
                <a:solidFill>
                  <a:srgbClr val="000000"/>
                </a:solidFill>
                <a:latin typeface="Calibri"/>
              </a:rPr>
              <a:t>If commissioners retire before the election, the governor can appoint people to fill the unexpired portion of the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hat the plural executive in fact looks like, constitutionally. </a:t>
            </a:r>
            <a:br>
              <a:rPr sz="4000"/>
            </a:br>
            <a:br>
              <a:rPr sz="4000"/>
            </a:br>
            <a:r>
              <a:rPr b="0" lang="en-US" sz="4000" spc="-1" strike="noStrike">
                <a:solidFill>
                  <a:srgbClr val="000000"/>
                </a:solidFill>
                <a:latin typeface="Calibri"/>
              </a:rPr>
              <a:t>The design is a consequence of history. It was established in the Constitution of 1876 - is argued to have been a response to the perceived abuses the state suffered under Reconstruction as well as the alleged corruption of the administration of E.J. Dav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ecutive in previous constitutions had been more powerful, and better to carry out state policies at the expense of local governments.</a:t>
            </a:r>
            <a:br>
              <a:rPr sz="4000"/>
            </a:br>
            <a:br>
              <a:rPr sz="4000"/>
            </a:br>
            <a:r>
              <a:rPr b="0" lang="en-US" sz="4000" spc="-1" strike="noStrike">
                <a:solidFill>
                  <a:srgbClr val="000000"/>
                </a:solidFill>
                <a:latin typeface="Calibri"/>
              </a:rPr>
              <a:t>The best example was executive design in the Constitution of 1869, which was drafted by the “Radical Republicans” in 1868-69.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1869 convention from the TSHA click here, and from the online textbook Texas Politics, click here. </a:t>
            </a:r>
            <a:br>
              <a:rPr sz="4400"/>
            </a:br>
            <a:br>
              <a:rPr sz="4400"/>
            </a:br>
            <a:r>
              <a:rPr b="0" lang="en-US" sz="4400" spc="-1" strike="noStrike">
                <a:solidFill>
                  <a:srgbClr val="000000"/>
                </a:solidFill>
                <a:latin typeface="Calibri"/>
              </a:rPr>
              <a:t>Click here for the 1869 Constitution, and here for Article IV which established th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detail (at least to me) prior to readmission to the union, Texas was governed by the military in the Fifth Military District, along with Louisian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y of the intent of the 1975 Constitutional Convention was to limit the power of state government, and the governor specifically. As a consequence, it is generally argued that the Texas Governor is one of the weaker ones in the US. How weak is it compared to other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omprehensive effort to determine who the weak and powerful governo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top executive official is autonomous and has their own independent base of support. They cannot be controlled by the governor.</a:t>
            </a:r>
            <a:br>
              <a:rPr sz="3200"/>
            </a:br>
            <a:br>
              <a:rPr sz="3200"/>
            </a:br>
            <a:r>
              <a:rPr b="0" lang="en-US" sz="3200" spc="-1" strike="noStrike">
                <a:solidFill>
                  <a:srgbClr val="000000"/>
                </a:solidFill>
                <a:latin typeface="Calibri"/>
              </a:rPr>
              <a:t>This raises the obvious question: Is the Texas Governor too weak and too divided? Is it possible for the voters to hold specific members of the state executive accountable for their actions if it is not clear who is responsible for executiv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there has been an effort to expand the power of the governor by allowing him to appoint people to newly created institutions, commissions and boards. The governor has grown in power to some degree as a res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elps explain why the current governor - Rick Perry – is unusually powerful. His duration in office has allowed him to appoint people to practically every appointed position on Texas government. He has placed a stamp on the executive beyond what governors are able to do. </a:t>
            </a:r>
            <a:br>
              <a:rPr sz="3600"/>
            </a:br>
            <a:br>
              <a:rPr sz="3600"/>
            </a:br>
            <a:r>
              <a:rPr b="0" lang="en-US" sz="3600" spc="-1" strike="noStrike">
                <a:solidFill>
                  <a:srgbClr val="000000"/>
                </a:solidFill>
                <a:latin typeface="Calibri"/>
              </a:rPr>
              <a:t>His personal political strength has transcended the institutional limitations of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has to be emphasized here. The Texas executive branch is composed of more than just the governor.</a:t>
            </a:r>
            <a:br>
              <a:rPr sz="3600"/>
            </a:br>
            <a:br>
              <a:rPr sz="3600"/>
            </a:br>
            <a:r>
              <a:rPr b="0" lang="en-US" sz="3600" spc="-1" strike="noStrike">
                <a:solidFill>
                  <a:srgbClr val="000000"/>
                </a:solidFill>
                <a:latin typeface="Calibri"/>
              </a:rPr>
              <a:t>While the US executive branch is singular – all executive power is vested in the president – the Texas executive branch is plural. Power is divided into separate, autonomous instit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thorough information, click on Rutgers University’s Center on the American Governor.</a:t>
            </a:r>
            <a:br>
              <a:rPr sz="4400"/>
            </a:br>
            <a:br>
              <a:rPr sz="4400"/>
            </a:br>
            <a:r>
              <a:rPr b="0" lang="en-US" sz="2800" spc="-1" strike="noStrike">
                <a:solidFill>
                  <a:srgbClr val="000000"/>
                </a:solidFill>
                <a:latin typeface="Calibri"/>
              </a:rPr>
              <a:t>Roles, Functions and Powers of the Govern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a:t>
            </a:r>
            <a:br>
              <a:rPr sz="4400"/>
            </a:br>
            <a:br>
              <a:rPr sz="4400"/>
            </a:br>
            <a:r>
              <a:rPr b="0" lang="en-US" sz="4400" spc="-1" strike="noStrike">
                <a:solidFill>
                  <a:srgbClr val="000000"/>
                </a:solidFill>
                <a:latin typeface="Calibri"/>
              </a:rPr>
              <a:t>ELECTION OF OFFICERS OF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the above officers of the Executive Department (except Secretary of State) shall be elected by the qualified voters of the State at the time and places of election for members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actually drives a wedge between the people in the separate executive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a:t>
            </a:r>
            <a:br>
              <a:rPr sz="4400"/>
            </a:br>
            <a:br>
              <a:rPr sz="4400"/>
            </a:br>
            <a:r>
              <a:rPr b="0" lang="en-US" sz="4400" spc="-1" strike="noStrike">
                <a:solidFill>
                  <a:srgbClr val="000000"/>
                </a:solidFill>
                <a:latin typeface="Calibri"/>
              </a:rPr>
              <a:t>RETURNS OF ELECTION; DECLARATION OF ELECTION; TIE VOTES; CONT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the voter returns have to be delivered to the Secretary of State, who gives them to the Speaker who announces the winners of each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retary of State, as you can see, has a special role to play in organizing and overseeing elections in the state. Perhaps this explains why the office is not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  DEATH, DISABILITY, OR FAILURE TO QUALIFY OF PERSON RECEIVING HIGHES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ates what happens if the winner dies. If it’s the governor, the lieutenant governor gets the job. Other succession issues are handl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INSTALLATION OF GOVERNOR; TERM; 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article, click here: </a:t>
            </a:r>
            <a:br>
              <a:rPr sz="4400"/>
            </a:br>
            <a:br>
              <a:rPr sz="4400"/>
            </a:br>
            <a:r>
              <a:rPr b="0" lang="en-US" sz="4400" spc="-1" strike="noStrike">
                <a:solidFill>
                  <a:srgbClr val="000000"/>
                </a:solidFill>
                <a:latin typeface="Calibri"/>
              </a:rPr>
              <a:t>Article 4. </a:t>
            </a:r>
            <a:br>
              <a:rPr sz="4400"/>
            </a:br>
            <a:r>
              <a:rPr b="0" lang="en-US" sz="4400" spc="-1" strike="noStrike">
                <a:solidFill>
                  <a:srgbClr val="000000"/>
                </a:solidFill>
                <a:latin typeface="Calibri"/>
              </a:rPr>
              <a:t>Texas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Governor elected at the general election in 1974, and thereafter, shall be installed on the first Tuesday after the organization of the Legislature, or as soon thereafter as practicable, and shall hold his office for the term of four years, or until his successor shall be duly installed. He shall be at least thirty years of age, a citizen of the United States, and shall have resided in this State at least five years immediately preceding his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originally had </a:t>
            </a:r>
            <a:br>
              <a:rPr sz="4400"/>
            </a:br>
            <a:r>
              <a:rPr b="0" lang="en-US" sz="4400" spc="-1" strike="noStrike">
                <a:solidFill>
                  <a:srgbClr val="000000"/>
                </a:solidFill>
                <a:latin typeface="Calibri"/>
              </a:rPr>
              <a:t>a two year term and rapid </a:t>
            </a:r>
            <a:br>
              <a:rPr sz="4400"/>
            </a:br>
            <a:r>
              <a:rPr b="0" lang="en-US" sz="4400" spc="-1" strike="noStrike">
                <a:solidFill>
                  <a:srgbClr val="000000"/>
                </a:solidFill>
                <a:latin typeface="Calibri"/>
              </a:rPr>
              <a:t>turnover was common. This established the four year term. This has led to an increase in the governor’s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Texas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a:t>
            </a:r>
            <a:br>
              <a:rPr sz="4400"/>
            </a:br>
            <a:br>
              <a:rPr sz="4400"/>
            </a:br>
            <a:r>
              <a:rPr b="0" lang="en-US" sz="4400" spc="-1" strike="noStrike">
                <a:solidFill>
                  <a:srgbClr val="000000"/>
                </a:solidFill>
                <a:latin typeface="Calibri"/>
              </a:rPr>
              <a:t>COMPENSATION OF GOVERN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shall, at stated times, receive as compensation for his services an annual salary in an amount to be fixed by the Legislature, and shall have the use and occupation of the Governor's Mansion, fixtures and furni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nsion ain’t looking good right now.</a:t>
            </a:r>
            <a:endParaRPr b="0" lang="en-US" sz="3600" spc="-1" strike="noStrike">
              <a:solidFill>
                <a:srgbClr val="000000"/>
              </a:solidFill>
              <a:latin typeface="Calibri"/>
            </a:endParaRPr>
          </a:p>
        </p:txBody>
      </p:sp>
      <p:pic>
        <p:nvPicPr>
          <p:cNvPr id="94" name="Picture 2" descr="http://governor.state.tx.us/images/about/mansion/Mansion_Fire_EXT.jpg"/>
          <p:cNvPicPr/>
          <p:nvPr/>
        </p:nvPicPr>
        <p:blipFill>
          <a:blip r:embed="rId1"/>
          <a:stretch/>
        </p:blipFill>
        <p:spPr>
          <a:xfrm>
            <a:off x="990720" y="1143000"/>
            <a:ext cx="711180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elected executive officials are paid $150,000 a year. The Texas Governor gets some pretty cool perks also.</a:t>
            </a:r>
            <a:br>
              <a:rPr sz="4400"/>
            </a:br>
            <a:br>
              <a:rPr sz="4400"/>
            </a:br>
            <a:r>
              <a:rPr b="0" lang="en-US" sz="4400" spc="-1" strike="noStrike">
                <a:solidFill>
                  <a:srgbClr val="000000"/>
                </a:solidFill>
                <a:latin typeface="Calibri"/>
              </a:rPr>
              <a:t>But they are nowhere near the top of state government employee sal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alaries of top executive officials in the state. </a:t>
            </a:r>
            <a:br>
              <a:rPr sz="4400"/>
            </a:br>
            <a:br>
              <a:rPr sz="4400"/>
            </a:br>
            <a:r>
              <a:rPr b="0" lang="en-US" sz="4400" spc="-1" strike="noStrike">
                <a:solidFill>
                  <a:srgbClr val="000000"/>
                </a:solidFill>
                <a:latin typeface="Calibri"/>
              </a:rPr>
              <a:t>Governor’s pay tend to vary widely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a:t>
            </a:r>
            <a:br>
              <a:rPr sz="4400"/>
            </a:br>
            <a:br>
              <a:rPr sz="4400"/>
            </a:br>
            <a:r>
              <a:rPr b="0" lang="en-US" sz="4400" spc="-1" strike="noStrike">
                <a:solidFill>
                  <a:srgbClr val="000000"/>
                </a:solidFill>
                <a:latin typeface="Calibri"/>
              </a:rPr>
              <a:t>HOLDING OTHER OFFICES; PRACTICE OF PROFESSION; OTHER SALARY, REWARD, OR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uring the time he holds the office of Governor, he shall not hold any other office: civil, military or corporate; nor shall he practice any profession, and receive compensation, reward, fee, or the promise thereof for the same; nor receive any salary, reward or compensation or the promise thereof from any person or corporation, for any service rendered or performed during the time he is Governor, or to be thereafter rendered or perform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other places to get background: </a:t>
            </a:r>
            <a:br>
              <a:rPr sz="3600"/>
            </a:br>
            <a:br>
              <a:rPr sz="3600"/>
            </a:br>
            <a:r>
              <a:rPr b="0" lang="en-US" sz="3600" spc="-1" strike="noStrike">
                <a:solidFill>
                  <a:srgbClr val="000000"/>
                </a:solidFill>
                <a:latin typeface="Calibri"/>
              </a:rPr>
              <a:t>Texas Politics: The Executive Branch.</a:t>
            </a:r>
            <a:br>
              <a:rPr sz="3600"/>
            </a:br>
            <a:r>
              <a:rPr b="0" lang="en-US" sz="3600" spc="-1" strike="noStrike">
                <a:solidFill>
                  <a:srgbClr val="000000"/>
                </a:solidFill>
                <a:latin typeface="Calibri"/>
              </a:rPr>
              <a:t>Governor’s Office: Powers and Duties.</a:t>
            </a:r>
            <a:br>
              <a:rPr sz="3600"/>
            </a:br>
            <a:r>
              <a:rPr b="0" lang="en-US" sz="3600" spc="-1" strike="noStrike">
                <a:solidFill>
                  <a:srgbClr val="000000"/>
                </a:solidFill>
                <a:latin typeface="Calibri"/>
              </a:rPr>
              <a:t>TSHA: Govern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members of the legislature, the governor can hold no other position – including private positions - apart from the office.</a:t>
            </a:r>
            <a:br>
              <a:rPr sz="4400"/>
            </a:br>
            <a:br>
              <a:rPr sz="4400"/>
            </a:br>
            <a:r>
              <a:rPr b="0" lang="en-US" sz="3200" spc="-1" strike="noStrike">
                <a:solidFill>
                  <a:srgbClr val="000000"/>
                </a:solidFill>
                <a:latin typeface="Calibri"/>
              </a:rPr>
              <a:t>The governorship – as well as the other executive positions - is a professional position, as opposed to legislative positions, which are considered to be amateu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  </a:t>
            </a:r>
            <a:br>
              <a:rPr sz="4400"/>
            </a:br>
            <a:br>
              <a:rPr sz="4400"/>
            </a:br>
            <a:r>
              <a:rPr b="0" lang="en-US" sz="4400" spc="-1" strike="noStrike">
                <a:solidFill>
                  <a:srgbClr val="000000"/>
                </a:solidFill>
                <a:latin typeface="Calibri"/>
              </a:rPr>
              <a:t>COMMANDER-IN-CHIEF OF MILITARY FORCES; CALLING FORTH MILIT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He shall be Commander-in-Chief of the military forces of the State, except when they are called into actual service of the United States. He shall have power to call forth the militia to execute the laws of the State, to suppress insurrections, and to repel inva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in charge of the military forc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as the power to appoint the Adjutant General (as of 2/17/11 - John F. Nichols), which heads the Texas Military Forces.</a:t>
            </a:r>
            <a:br>
              <a:rPr sz="4400"/>
            </a:br>
            <a:br>
              <a:rPr sz="4400"/>
            </a:br>
            <a:r>
              <a:rPr b="0" lang="en-US" sz="4400" spc="-1" strike="noStrike">
                <a:solidFill>
                  <a:srgbClr val="000000"/>
                </a:solidFill>
                <a:latin typeface="Calibri"/>
              </a:rPr>
              <a:t>TSHA: Adjutant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branches of the Texas military: </a:t>
            </a:r>
            <a:br>
              <a:rPr sz="4400"/>
            </a:br>
            <a:br>
              <a:rPr sz="4400"/>
            </a:br>
            <a:r>
              <a:rPr b="0" lang="en-US" sz="3200" spc="-1" strike="noStrike">
                <a:solidFill>
                  <a:srgbClr val="000000"/>
                </a:solidFill>
                <a:latin typeface="Calibri"/>
              </a:rPr>
              <a:t>1 – the Texas State Guard (Wikipedia) </a:t>
            </a:r>
            <a:br>
              <a:rPr sz="3200"/>
            </a:br>
            <a:r>
              <a:rPr b="0" lang="en-US" sz="3200" spc="-1" strike="noStrike">
                <a:solidFill>
                  <a:srgbClr val="000000"/>
                </a:solidFill>
                <a:latin typeface="Calibri"/>
              </a:rPr>
              <a:t>2 – the Texas Army National Guard (Wikipedia)</a:t>
            </a:r>
            <a:br>
              <a:rPr sz="3200"/>
            </a:br>
            <a:r>
              <a:rPr b="0" lang="en-US" sz="3200" spc="-1" strike="noStrike">
                <a:solidFill>
                  <a:srgbClr val="000000"/>
                </a:solidFill>
                <a:latin typeface="Calibri"/>
              </a:rPr>
              <a:t>3 – the Texas Air National Guard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limited police powers (most of these are held by city and county governments). He can appoint members of the Public Safety Commission which has authority over the Department of Public Saf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the power – seldom used – to command the Texas Ra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a:t>
            </a:r>
            <a:br>
              <a:rPr sz="4400"/>
            </a:br>
            <a:br>
              <a:rPr sz="4400"/>
            </a:br>
            <a:r>
              <a:rPr b="0" lang="en-US" sz="4400" spc="-1" strike="noStrike">
                <a:solidFill>
                  <a:srgbClr val="000000"/>
                </a:solidFill>
                <a:latin typeface="Calibri"/>
              </a:rPr>
              <a:t>CONVENING LEGISLATURE ON EXTRAORDINARY OCCA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 The Governor may, on extraordinary occasions, convene the Legislature at the seat of Government, or at a different place, in case that should be in possession of the public enemy or in case of the prevalence of disease threat. His proclamation therefor shall state specifically the purpose for which the Legislature is conve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worth a look: </a:t>
            </a:r>
            <a:br>
              <a:rPr sz="4400"/>
            </a:br>
            <a:br>
              <a:rPr sz="4400"/>
            </a:br>
            <a:r>
              <a:rPr b="0" lang="en-US" sz="3200" spc="-1" strike="noStrike">
                <a:solidFill>
                  <a:srgbClr val="000000"/>
                </a:solidFill>
                <a:latin typeface="Calibri"/>
              </a:rPr>
              <a:t>The National Governors’ Association.</a:t>
            </a:r>
            <a:br>
              <a:rPr sz="3200"/>
            </a:br>
            <a:br>
              <a:rPr sz="3200"/>
            </a:br>
            <a:r>
              <a:rPr b="0" lang="en-US" sz="2400" spc="-1" strike="noStrike">
                <a:solidFill>
                  <a:srgbClr val="000000"/>
                </a:solidFill>
                <a:latin typeface="Calibri"/>
              </a:rPr>
              <a:t>The National Governors Association (NGA)—the bipartisan organization of the nation's governors—promotes visionary state leadership, shares best practices and speaks with a collective voice on national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exas happens to be under attack, he can convene the legislature in different places, he can also call special sessions to expedite the appointment of presidential electors.</a:t>
            </a:r>
            <a:br>
              <a:rPr sz="3200"/>
            </a:br>
            <a:br>
              <a:rPr sz="3200"/>
            </a:br>
            <a:r>
              <a:rPr b="0" lang="en-US" sz="3200" spc="-1" strike="noStrike">
                <a:solidFill>
                  <a:srgbClr val="000000"/>
                </a:solidFill>
                <a:latin typeface="Calibri"/>
              </a:rPr>
              <a:t>It could happ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a:t>
            </a:r>
            <a:br>
              <a:rPr sz="4400"/>
            </a:br>
            <a:br>
              <a:rPr sz="4400"/>
            </a:br>
            <a:r>
              <a:rPr b="0" lang="en-US" sz="4400" spc="-1" strike="noStrike">
                <a:solidFill>
                  <a:srgbClr val="000000"/>
                </a:solidFill>
                <a:latin typeface="Calibri"/>
              </a:rPr>
              <a:t>GOVERNOR'S MESSAGE AND RECOMMENDATIONS; ACCOUNTING FOR PUBLIC MONEY; ESTIMATES OF MONEY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Governor shall, at the commencement of each session of the Legislature, and at the close of his term of office, give to the Legislature information, by message, of the condition of the State; and he shall recommend to the Legislature such measures as he may deem expedient. He shall account to the Legislature for all public moneys received and paid out by him, from any funds subject to his order, with vouchers; and shall accompany his message with a statement of the same. And at the commencement of each regular session, he shall present estimates of the amount of money required to be raised by taxation for all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is mandated to give “state of the state” messages before each session of the legislature, and at the end of his term. </a:t>
            </a:r>
            <a:br>
              <a:rPr sz="3600"/>
            </a:br>
            <a:br>
              <a:rPr sz="3600"/>
            </a:br>
            <a:r>
              <a:rPr b="0" lang="en-US" sz="3600" spc="-1" strike="noStrike">
                <a:solidFill>
                  <a:srgbClr val="000000"/>
                </a:solidFill>
                <a:latin typeface="Calibri"/>
              </a:rPr>
              <a:t>Click here for the one in 2011 to commence the legislative session.</a:t>
            </a:r>
            <a:br>
              <a:rPr sz="3600"/>
            </a:br>
            <a:br>
              <a:rPr sz="3600"/>
            </a:br>
            <a:r>
              <a:rPr b="0" lang="en-US" sz="3600" spc="-1" strike="noStrike">
                <a:solidFill>
                  <a:srgbClr val="000000"/>
                </a:solidFill>
                <a:latin typeface="Calibri"/>
              </a:rPr>
              <a:t>The Texas Tribune reviews them a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ccount of public moneys spent has to be provided to the legislature, and before each session begins, an estimate has to be provided of the amount of money needed to be raised in taxes in order to provide current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nction is handled by the Texas Comptroller, who is mandated to present a revenue estimation prior to the beginning of each session of the Texas legislature. </a:t>
            </a:r>
            <a:br>
              <a:rPr sz="3600"/>
            </a:br>
            <a:br>
              <a:rPr sz="3600"/>
            </a:br>
            <a:r>
              <a:rPr b="0" lang="en-US" sz="3600" spc="-1" strike="noStrike">
                <a:solidFill>
                  <a:srgbClr val="000000"/>
                </a:solidFill>
                <a:latin typeface="Calibri"/>
              </a:rPr>
              <a:t>Click here for the process.</a:t>
            </a:r>
            <a:br>
              <a:rPr sz="3600"/>
            </a:br>
            <a:r>
              <a:rPr b="0" lang="en-US" sz="3600" spc="-1" strike="noStrike">
                <a:solidFill>
                  <a:srgbClr val="000000"/>
                </a:solidFill>
                <a:latin typeface="Calibri"/>
              </a:rPr>
              <a:t>Click here for the 2012-13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0  </a:t>
            </a:r>
            <a:br>
              <a:rPr sz="4000"/>
            </a:br>
            <a:br>
              <a:rPr sz="4000"/>
            </a:br>
            <a:r>
              <a:rPr b="0" lang="en-US" sz="4000" spc="-1" strike="noStrike">
                <a:solidFill>
                  <a:srgbClr val="000000"/>
                </a:solidFill>
                <a:latin typeface="Calibri"/>
              </a:rPr>
              <a:t>EXECUTION OF LAWS; CONDUCT OF BUSINESS WITH OTHER STATES AND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cause the laws to be faithfully executed and shall conduct, in person, or in such manner as shall be prescribed by law, all intercourse and business of the State with other States and with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  </a:t>
            </a:r>
            <a:br>
              <a:rPr sz="4400"/>
            </a:br>
            <a:br>
              <a:rPr sz="4400"/>
            </a:br>
            <a:r>
              <a:rPr b="0" lang="en-US" sz="4400" spc="-1" strike="noStrike">
                <a:solidFill>
                  <a:srgbClr val="000000"/>
                </a:solidFill>
                <a:latin typeface="Calibri"/>
              </a:rPr>
              <a:t>BOARD OF PARDONS AND PAROLES; PAROLE LAWS; REPRIEVES, COMMUTATIONS, AND PARDONS; REMISSION OF FINES AND FORFE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Courts of the State of Texas having original jurisdiction of criminal actions shall have the power, after conviction, to suspend the imposition or execution of sentence and to place the defendant upon probation and to reimpose such sentence, under such conditions as the Legislature may prescrib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ambitious, read through the history of Article IV of the Constitution here.</a:t>
            </a:r>
            <a:br>
              <a:rPr sz="3200"/>
            </a:br>
            <a:br>
              <a:rPr sz="3200"/>
            </a:br>
            <a:r>
              <a:rPr b="0" lang="en-US" sz="3200" spc="-1" strike="noStrike">
                <a:solidFill>
                  <a:srgbClr val="000000"/>
                </a:solidFill>
                <a:latin typeface="Calibri"/>
              </a:rPr>
              <a:t>It was written by the Texas State Law Libra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sident, the Governor has the ability to check judicial power by granting pardons and paroles. Since it is expected that a greater number of prisoners will be held in state facilities, an institution exists to process requests for paroles and clem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people to the board subject to senate confirmation. Click here for a list of current board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Board of Pardons and Paroles’ website. For further information: </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opics: Texas Tribune.</a:t>
            </a:r>
            <a:br>
              <a:rPr sz="4400"/>
            </a:br>
            <a:r>
              <a:rPr b="0" lang="en-US" sz="4400" spc="-1" strike="noStrike">
                <a:solidFill>
                  <a:srgbClr val="000000"/>
                </a:solidFill>
                <a:latin typeface="Calibri"/>
              </a:rPr>
              <a:t>Self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  CRIMINAL JUSTICE AGENCIES. </a:t>
            </a:r>
            <a:br>
              <a:rPr sz="4400"/>
            </a:br>
            <a:br>
              <a:rPr sz="4400"/>
            </a:br>
            <a:r>
              <a:rPr b="0" lang="en-US" sz="4400" spc="-1" strike="noStrike">
                <a:solidFill>
                  <a:srgbClr val="000000"/>
                </a:solidFill>
                <a:latin typeface="Calibri"/>
              </a:rPr>
              <a:t>The legislature has the authority to organize and establish criminal justic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The legislature by law may organize and combine into one or more agencies all agencies of the state that:</a:t>
            </a:r>
            <a:br>
              <a:rPr sz="2800"/>
            </a:br>
            <a:r>
              <a:rPr b="0" i="1" lang="en-US" sz="2800" spc="-1" strike="noStrike">
                <a:solidFill>
                  <a:srgbClr val="000000"/>
                </a:solidFill>
                <a:latin typeface="Calibri"/>
              </a:rPr>
              <a:t>(1)  have authority over the confinement or supervision of persons convicted of criminal offenses; (2) set standards or distribute state funds to political subdivisions that have authority over the confinement or supervision of persons convicted of criminal offenses; or (3) gather information about the administration of criminal justice. (b) The legislature by law may authorize the appointment of members of more than one department of government to serve on the governing bod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asks are handled by the Texas Department of Criminal Justice (Wikipedia).</a:t>
            </a:r>
            <a:br>
              <a:rPr sz="3200"/>
            </a:br>
            <a:br>
              <a:rPr sz="3200"/>
            </a:br>
            <a:r>
              <a:rPr b="0" lang="en-US" sz="3200" spc="-1" strike="noStrike">
                <a:solidFill>
                  <a:srgbClr val="000000"/>
                </a:solidFill>
                <a:latin typeface="Calibri"/>
              </a:rPr>
              <a:t>They run the p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partment of Criminal Justice is overseen by the Texas Board of Criminal Justice, a nine member pane; appoint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iminal Justice Division of the Attorney General’s Office is also involved in the criminal justice process, they assist with criminal investig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a:t>
            </a:r>
            <a:br>
              <a:rPr sz="4400"/>
            </a:br>
            <a:br>
              <a:rPr sz="4400"/>
            </a:br>
            <a:r>
              <a:rPr b="0" lang="en-US" sz="4400" spc="-1" strike="noStrike">
                <a:solidFill>
                  <a:srgbClr val="000000"/>
                </a:solidFill>
                <a:latin typeface="Calibri"/>
              </a:rPr>
              <a:t>VACANCIES IN STATE OR DISTRIC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has vast power to fill vacancies in the state and district offices. </a:t>
            </a:r>
            <a:br>
              <a:rPr sz="3600"/>
            </a:br>
            <a:br>
              <a:rPr sz="3600"/>
            </a:br>
            <a:r>
              <a:rPr b="0" lang="en-US" sz="3600" spc="-1" strike="noStrike">
                <a:solidFill>
                  <a:srgbClr val="000000"/>
                </a:solidFill>
                <a:latin typeface="Calibri"/>
              </a:rPr>
              <a:t>This gives the governor a significant degree of power over other institutions, notably the judiciary. Judges often resign prior to the end of their terms so that the governor can replace them with a handpicked selection that can then run for reelection as the incumb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aspects of the Texas Constitution, Article 4 has expanded over the course of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items related to judicial appointments</a:t>
            </a:r>
            <a:br>
              <a:rPr sz="4400"/>
            </a:br>
            <a:br>
              <a:rPr sz="4400"/>
            </a:br>
            <a:r>
              <a:rPr b="0" lang="en-US" sz="4400" spc="-1" strike="noStrike">
                <a:solidFill>
                  <a:srgbClr val="000000"/>
                </a:solidFill>
                <a:latin typeface="Calibri"/>
              </a:rPr>
              <a:t>- Grits for Breakfast.</a:t>
            </a:r>
            <a:br>
              <a:rPr sz="4400"/>
            </a:br>
            <a:r>
              <a:rPr b="0" lang="en-US" sz="4400" spc="-1" strike="noStrike">
                <a:solidFill>
                  <a:srgbClr val="000000"/>
                </a:solidFill>
                <a:latin typeface="Calibri"/>
              </a:rPr>
              <a:t>- NYT.</a:t>
            </a:r>
            <a:br>
              <a:rPr sz="4400"/>
            </a:br>
            <a:r>
              <a:rPr b="0" lang="en-US" sz="4400" spc="-1" strike="noStrike">
                <a:solidFill>
                  <a:srgbClr val="000000"/>
                </a:solidFill>
                <a:latin typeface="Calibri"/>
              </a:rPr>
              <a:t>- Judges appointed by Rick Per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if you’d like to be appointed to a board or commission click here. </a:t>
            </a:r>
            <a:br>
              <a:rPr sz="4400"/>
            </a:br>
            <a:br>
              <a:rPr sz="4400"/>
            </a:br>
            <a:r>
              <a:rPr b="0" lang="en-US" sz="4400" spc="-1" strike="noStrike">
                <a:solidFill>
                  <a:srgbClr val="000000"/>
                </a:solidFill>
                <a:latin typeface="Calibri"/>
              </a:rPr>
              <a:t>Here are notifications of recent appointments made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3  </a:t>
            </a:r>
            <a:br>
              <a:rPr sz="4000"/>
            </a:br>
            <a:br>
              <a:rPr sz="4000"/>
            </a:br>
            <a:r>
              <a:rPr b="0" lang="en-US" sz="4000" spc="-1" strike="noStrike">
                <a:solidFill>
                  <a:srgbClr val="000000"/>
                </a:solidFill>
                <a:latin typeface="Calibri"/>
              </a:rPr>
              <a:t>RESIDENCE OF GOVERNO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uring the session of the Legislature the Governor shall reside where its sessions are held, and at all other times at the seat of Government, except when by act of the Legislature, he may be required or authorized to reside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ly the governor lives in the Governor’s Mansion (which burned recently). So Governor Perry lives in rental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  </a:t>
            </a:r>
            <a:br>
              <a:rPr sz="4400"/>
            </a:br>
            <a:br>
              <a:rPr sz="4400"/>
            </a:br>
            <a:r>
              <a:rPr b="0" lang="en-US" sz="4400" spc="-1" strike="noStrike">
                <a:solidFill>
                  <a:srgbClr val="000000"/>
                </a:solidFill>
                <a:latin typeface="Calibri"/>
              </a:rPr>
              <a:t>APPROVAL OR DISAPPROVAL OF BILLS; RETURN AND RECONSIDERATION; FAILURE TO RETURN; DISAPPROVAL OF ITEMS OF APPROPR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role in the bill making process is similar to the President’s, with some significant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has 10 days, rather than 20, if the bill is presented to him during the session. </a:t>
            </a:r>
            <a:br>
              <a:rPr sz="4000"/>
            </a:br>
            <a:br>
              <a:rPr sz="4000"/>
            </a:br>
            <a:r>
              <a:rPr b="0" lang="en-US" sz="4000" spc="-1" strike="noStrike">
                <a:solidFill>
                  <a:srgbClr val="000000"/>
                </a:solidFill>
                <a:latin typeface="Calibri"/>
              </a:rPr>
              <a:t>After the session is over, the Governor has 20 days to veto, but these vetoes cannot be overridden because the legislature is no longer in session to do so. These vetoes are f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ne item veto authority which allow for him to strike items from appropriations bills. He does not have this power over other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all vetoes by Texas governors.</a:t>
            </a:r>
            <a:br>
              <a:rPr sz="4400"/>
            </a:br>
            <a:br>
              <a:rPr sz="4400"/>
            </a:br>
            <a:r>
              <a:rPr b="0" lang="en-US" sz="4400" spc="-1" strike="noStrike">
                <a:solidFill>
                  <a:srgbClr val="000000"/>
                </a:solidFill>
                <a:latin typeface="Calibri"/>
              </a:rPr>
              <a:t>Governor Perry has been known to veto a large number of bills, including a record 83 in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riginally written, the 1876 Constitution contained: </a:t>
            </a:r>
            <a:br>
              <a:rPr sz="4400"/>
            </a:br>
            <a:br>
              <a:rPr sz="4400"/>
            </a:br>
            <a:r>
              <a:rPr b="0" lang="en-US" sz="4400" spc="-1" strike="noStrike">
                <a:solidFill>
                  <a:srgbClr val="000000"/>
                </a:solidFill>
                <a:latin typeface="Calibri"/>
              </a:rPr>
              <a:t>26 Sections </a:t>
            </a:r>
            <a:br>
              <a:rPr sz="4400"/>
            </a:br>
            <a:r>
              <a:rPr b="0" lang="en-US" sz="4400" spc="-1" strike="noStrike">
                <a:solidFill>
                  <a:srgbClr val="000000"/>
                </a:solidFill>
                <a:latin typeface="Calibri"/>
              </a:rPr>
              <a:t>and</a:t>
            </a:r>
            <a:br>
              <a:rPr sz="4400"/>
            </a:br>
            <a:r>
              <a:rPr b="0" lang="en-US" sz="4400" spc="-1" strike="noStrike">
                <a:solidFill>
                  <a:srgbClr val="000000"/>
                </a:solidFill>
                <a:latin typeface="Calibri"/>
              </a:rPr>
              <a:t>2,716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  </a:t>
            </a:r>
            <a:br>
              <a:rPr sz="4400"/>
            </a:br>
            <a:br>
              <a:rPr sz="4400"/>
            </a:br>
            <a:r>
              <a:rPr b="0" lang="en-US" sz="4400" spc="-1" strike="noStrike">
                <a:solidFill>
                  <a:srgbClr val="000000"/>
                </a:solidFill>
                <a:latin typeface="Calibri"/>
              </a:rPr>
              <a:t>APPROVAL OR DISAPPROVAL OF ORDERS, RESOLUTIONS, OR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very order, resolution or vote to which the concurrence of both Houses of the Legislature may be necessary, except on questions of adjournment, shall be presented to the Governor, and, before it shall take effect, shall be approved by him; or, being disapproved, shall be repassed by both Houses, and all the rules, provisions and limitations shall apply thereto as prescribed in the last preceding section in the case of a bi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to power described in the previous section applies to resolu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details the powers of the Lieutenant Governor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  </a:t>
            </a:r>
            <a:br>
              <a:rPr sz="4400"/>
            </a:b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re shall also be a Lieutenant Governor, who shall be chosen at every election for Governor by the same voters, in the same manner, continue in office for the same time, and possess the same qualifications. The voters shall distinguish for whom they vote as Governor and for whom as Lieutenant Governor.</a:t>
            </a:r>
            <a:br>
              <a:rPr sz="2800"/>
            </a:br>
            <a:br>
              <a:rPr sz="2800"/>
            </a:br>
            <a:r>
              <a:rPr b="0" lang="en-US" sz="2800" spc="-1" strike="noStrike">
                <a:solidFill>
                  <a:srgbClr val="000000"/>
                </a:solidFill>
                <a:latin typeface="Calibri"/>
              </a:rPr>
              <a:t>(b)  The Lieutenant Governor shall by virtue of his office be President of the Senate, and shall have, when in Committee of the Whole, a right to debate and vote on all questions; and when the Senate is equally divided to give the casting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office is discussed in the Articles on both the legislature and executive. </a:t>
            </a:r>
            <a:br>
              <a:rPr sz="4400"/>
            </a:br>
            <a:br>
              <a:rPr sz="4400"/>
            </a:br>
            <a:r>
              <a:rPr b="0" lang="en-US" sz="4400" spc="-1" strike="noStrike">
                <a:solidFill>
                  <a:srgbClr val="000000"/>
                </a:solidFill>
                <a:latin typeface="Calibri"/>
              </a:rPr>
              <a:t>The Texas State Library has a list of past Lieutenant Governors. Here is a link to the office’s official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suggested that the Lieutenant Governors’ power over the Senate make that office stronger than the Governors’ Office. This is especially true when someone with a strong personality occupies the office, like Bob Bullock.</a:t>
            </a:r>
            <a:br>
              <a:rPr sz="3600"/>
            </a:br>
            <a:br>
              <a:rPr sz="3600"/>
            </a:br>
            <a:r>
              <a:rPr b="0" lang="en-US" sz="3600" spc="-1" strike="noStrike">
                <a:solidFill>
                  <a:srgbClr val="000000"/>
                </a:solidFill>
                <a:latin typeface="Calibri"/>
              </a:rPr>
              <a:t>Click here for the duties of the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powers of the office are established in the Senate’s rules of procedure. He is the leader of the Senate.</a:t>
            </a:r>
            <a:br>
              <a:rPr sz="4400"/>
            </a:br>
            <a:br>
              <a:rPr sz="4400"/>
            </a:br>
            <a:r>
              <a:rPr b="0" lang="en-US" sz="4400" spc="-1" strike="noStrike">
                <a:solidFill>
                  <a:srgbClr val="000000"/>
                </a:solidFill>
                <a:latin typeface="Calibri"/>
              </a:rPr>
              <a:t>These were discussed previous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  </a:t>
            </a:r>
            <a:br>
              <a:rPr sz="4400"/>
            </a:br>
            <a:br>
              <a:rPr sz="4400"/>
            </a:br>
            <a:r>
              <a:rPr b="0" lang="en-US" sz="4400" spc="-1" strike="noStrike">
                <a:solidFill>
                  <a:srgbClr val="000000"/>
                </a:solidFill>
                <a:latin typeface="Calibri"/>
              </a:rPr>
              <a:t>DEATH, RESIGNATION, REFUSAL TO SERVE, REMOVAL, INABILITY TO SERVE, IMPEACHMENT, OR ABSENCE;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5:52:33Z</dcterms:created>
  <dc:creator>Kevin Jefferies</dc:creator>
  <dc:description/>
  <dc:language>en-US</dc:language>
  <cp:lastModifiedBy>Kevin Jefferies</cp:lastModifiedBy>
  <dcterms:modified xsi:type="dcterms:W3CDTF">2012-10-15T11:06:53Z</dcterms:modified>
  <cp:revision>164</cp:revision>
  <dc:subject/>
  <dc:title>PowerPoint Presentation</dc:title>
</cp:coreProperties>
</file>